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2"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5"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6"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84CD-A404-4926-AB98-CF316E270F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1DFF-2280-4268-AE66-8E64708E02B5}" type="slidenum">
              <a:rPr b="0" lang="en-US" sz="1200" spc="-1" strike="noStrike">
                <a:solidFill>
                  <a:srgbClr val="000000"/>
                </a:solidFill>
                <a:latin typeface="Arial"/>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3FC7-AAFF-488D-8243-7C2D92B0B6A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359D-BDA1-4197-9850-50CD3DCCD2E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6DF5-F5CA-4729-AA2D-CD9F2B28CCF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6890-5691-41EC-B497-05163893129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CDE0-90FB-4282-AC90-27DC632E772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6A13-82F7-4052-B084-FA79398C5E5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C065-F363-4546-9595-D4933487D2D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DEC25-5F7F-41D4-B4BF-427FA94FA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361D0-4113-4565-BC20-7F3344675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C510FF-4187-4D75-B869-094B93B5C2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F02376-C788-45E0-8873-2113D67974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14AF2-4F7B-4315-BB00-4D959A41E4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927F3-4409-46C3-8DAC-C9AEBFB3C8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7982A7-A786-4A03-8765-E13D114443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0D3F69-6B8C-41C3-8FF6-687E01E33B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EC5ED1-0EE2-46F8-A753-3DDC18C824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DE19B6-BC57-44CB-B077-A4BD875580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4934AC-B68E-40EE-8CA1-469E25630D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38F5AC-E808-4E68-9F3F-92B4525B89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51BA8-D820-498C-8D78-465498457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C673F6-312C-4C6E-A54D-967C7D353C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C29729-5489-4B46-9018-74DBF7D5EA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C9395D-DD63-442B-8DF1-6F60A97AE8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F2820E-7743-4CF6-BB58-3E9FB60B3C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75CEAD-69AC-43DF-85A2-25179CF7FD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7BE042-7A43-4C74-BFCE-CDD13BCF21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280AAE-14AB-45AF-853C-85DC076999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8A1C7D-2EF6-4CCE-AFBC-D95A51653D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7057C5-268E-42FF-81E8-94803537EB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448A7B-493C-4542-9517-97D8047256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6B572-55E8-49FD-8B88-E6970B153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629F519-E63C-49F5-ABEA-92844E6973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302D3E-051B-4C17-8F61-7C5E1151BB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56BCC2-3AB8-4A5A-916A-92B0890239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0FAD11-D58A-4E55-8819-C292ED0AC1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CB501C-2546-4B47-95D5-189820E5E4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591341-4856-43D4-ABB0-D384EAB641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5EE01A-B145-4158-B90C-BE11A08751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47539F-9EFA-43B8-8207-4C319F09C0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6D8D62-A5C7-4DDE-B964-AB137185E8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845A34-B8F8-4736-BBA8-56817265D2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FE7DA-158F-42D4-849A-50FF5E2DF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1F5DA3-31B3-4300-830A-44A3C0AB26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CBECF9-8A4D-4F58-ABB6-CD0B84F8A9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F58AE9-9D54-4E32-8538-C1C4500886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75066B-B518-4381-90AF-1DAD7BECC25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3B9D1A-5186-4A70-9B87-8013BFA57F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AF26B6-D00A-41F9-83F1-C87EE99732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493F2D-B9F8-4C18-98D7-E357B21D99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C624A9-954B-4D73-A47C-07F217F345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39C608-65A9-47C8-8985-8706D1F248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330006-6095-4990-B666-C2B4FFC11D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08107-C6D3-4092-8A6B-3E6E1F57F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D990E0-2CAF-423F-820F-2056B7A7BF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897BDA-F1DF-48AE-9471-A24BE1DE35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D47A8F-1C8E-425E-9B55-4F48579151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D70ED4-264B-4AEB-8167-5603E93868F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2F75D1-5020-42E6-B509-8DE5596AA5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095CDBF-0A7E-4C8A-8EB6-D1717568CB4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49C56F-5701-45C9-B073-C57FBC6015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E7CC37-9B98-46C4-A593-C55D97EAEB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447E139-AFF3-4E07-BFA5-F01FFCC2FD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40E73FC-96C8-431A-9357-A5F55CF8F9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3F0F8-478F-4A36-B8B3-A07807776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E19E9D-B7ED-4848-9E47-12CB024CEF5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0E52F6-BC11-405D-B1CC-0663FFEEAB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78B17E-628B-4FB3-AFA9-31B80F6EB9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6A90E5-FDA5-4817-A77D-36F0B9A210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13B852-40DB-4D64-95A5-FF36AE01EB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B2E2A73-0B75-470D-A7B2-D1139E71576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41BB915-4CFA-430A-84F7-4A0C016A68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6E43AE2-FF96-44E5-AD14-B967D792801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BC6621-2D93-4C86-AEF8-ECE9F59DE2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3773AC1-D31D-4066-9FD9-5D0383F641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7602E-52F7-4572-B9F4-6F05C1DFF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B3F00F-4F8E-4D15-AE12-4F383C1F4C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E6BAE7-13F1-4CC8-B383-23E5DC4FD6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32E2B7-F4EE-424B-B238-DAF21799E03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53CA1A-0B95-42A5-9D3D-4C6DB6FCEA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785203-9BC2-4973-AF7E-F2FCD8A0FE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00C10F-DE82-4905-B8AE-4E9C9763AE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B5B8D2-3E05-44A2-B198-7E0C6303193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E126840-73B0-4521-ABC6-1CAE55D9E9E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9BE0443-F4E0-48D3-8729-AF43BE4ECE8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1ADA1-E011-4DA7-A559-6F66A2E68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58BDF-2827-4A74-B4B6-217627E94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EDBE7-076E-43A5-8339-514B630E7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1D251-42D2-4D67-B10C-1CC7E7056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ECB6E-0E2F-4F31-B2C5-AD6533A1F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E2B95-3F3A-4592-A3F4-FE3228115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09793-F13E-4AF8-8FEA-12AF6B9E4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21978-9CB0-4C0D-8F71-3443373A6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5480E-E9C5-4517-A143-DF111531E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473E0B-596D-4026-80D8-EB24BA050D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4BF6A-AE73-4151-ACE8-B29E9E6C2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879B3-74F1-4AFB-AC0F-1F079F690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54E180-8AAA-4C83-9954-E738F72C9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C3C0A-D7ED-46E3-BF6D-1F6FB1487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C9F74-9915-4D98-AF5D-6AD3D656D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120A8-7F29-4D03-AE0F-EEEF1D9BB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61C39-9764-43F1-BAAD-582CD7AD0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E6D83-4217-4C4C-B204-591B22803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905FD-79A2-4ACF-9F6A-7B41E9C18D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C09DA2-3E69-4859-A626-7697EBAC3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3C54A9-D7E4-4CB3-8478-2EEA4F5CF1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523884-D272-4563-951D-86969F57EB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094672-C0C2-4964-9E0D-61565C5302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CE16CE-3B85-4D3A-9EE1-44BEA26C6C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5A5D35-E257-4FB4-B9EF-5A5F51F4F0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893C4-FFC2-4A6D-857F-190308866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CBC1DB-4F2F-4B9E-9BEF-FBD700191F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CC7CC9-E747-465B-93FC-7EA5E91567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9BCDC0-1DE1-4025-87C1-A1B1FADAFE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D3BF3-3743-4E53-A582-056891602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EEDAB-7D90-4F7F-A9D6-FDC1B161B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B4A8E-6C8A-468E-A499-20C9C7DF2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057F9-39C4-47B1-90C8-E3D41EB27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D97AF9-3D28-41A1-92F4-B72E93BEC6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22D037-38E7-49DB-90B7-947279363F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6B53AC-EA84-45F8-A30E-0B9DFEDBAE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7048B-151A-4423-93A4-A76ECAC51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BD0052-3EE5-4441-86AE-ED5509D3ED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65E362-C677-4522-99BE-A2DE8FE06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6ACAEF-64FD-4BD7-AE4D-A2B7C8FF6F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CD66A1-03BD-4B86-8551-536A613269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D2AED0-AB26-4F05-8B29-96D83F647A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D51DD-414B-49F7-BEEF-9B834367E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88E70-AF8D-4BBC-B287-BA4031075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B144C-8D1A-43F7-9140-EB9EBFD2D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303E72-FD76-4A2C-9482-D0EB909BCA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45F39D-3C5C-471F-8AA2-C44705A068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EA8D8-BF44-4B32-BC62-D705FD833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3E3F36-D61D-4758-A40F-ECC4223CF7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1C2D31-ED78-4F76-A4BA-2F8622A50F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8AD2C1-0B71-417F-A5DC-065E76722A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855E3B-ED2A-4DEC-BBD8-3A0ABE8BFA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CDDE75-560F-472F-A02F-D960F5F9AD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44953A-3DA4-4E88-AB89-A7CA189D10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F0F367-985B-4673-9EED-68AB72C071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DCF958-57AC-45A4-9F4A-2D5651310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B8EA5-7E57-4C1B-98B9-F52F3ED31B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03C4C-BBB9-4902-B3F9-97091280D2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157F5-8FCD-46B8-9FF9-3CC476B1D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576ED5-98F7-4EB4-91A6-41AAF5E311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70E235-7F0E-40EF-B04F-FACFFE909F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850E6F-7B21-4689-9302-A65A4C3642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D30BB8-1E34-4F2B-AF4D-4484EC3721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B756BB-450C-4F88-88E4-19E5721A6A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B4CFAE-C121-4273-B1CB-C580199573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02928A-BCE8-4197-925F-938D5175F9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148298-73A0-4AE8-A4A3-9EBE803CEC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59315D-A125-439C-82DE-6D757146EB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4B087-53E0-4087-8E8F-0D9027FCE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7628-F3F2-40B3-A0DA-7B71AD4BC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4B2380-1560-4D3C-8C45-AE3B085F90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1A9A1-A797-454D-B702-6D16661DA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3E85A0-ECC2-4AC0-A46D-C75EBC430E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AA001B-0052-428E-A711-C50CF17E53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BE97FD-772F-4B4C-B17C-E7942B1B69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365242-0327-4F63-A70C-A0DBE67982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3D3295-8BF2-40F2-B57F-EAF5DBE964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52EE29-0011-4310-970A-F236B98247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0A4F62-60ED-49A1-9B74-1800E51E2B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FCE6C6-7F68-4ADA-85DE-332F45E183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DB9AC-50FE-4A86-8747-EE8423417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CF5251-D7DD-4029-BCB0-11FBB02A43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BDCAF-AB56-406C-958F-537A2B10A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7C763E-0EE6-4C93-A07D-AB6412A91D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B34B3B-8079-4C1C-AD5A-4852F97D4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2E7E83-E9B7-46F7-984C-034ECA9D92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52FE00-1918-4EDE-B6A2-A94FE0EBD9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22B054-20E5-48F7-8BA5-692741C4E3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1B7679-F027-41BE-90CB-5F33420EBD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C52871-3B97-43B4-9CA9-61EFC8E276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35428C-619A-4AC2-81BF-2A78731C3E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6BCC-175B-4C12-B510-F60587F26E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6803-D203-44F1-A162-58FF9D09BC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3CA0-7491-4816-A52E-7D718ABFD9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0754-364C-4B77-BF68-1911CECE4E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3032-DAD0-475C-82C8-AE374E6AC7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344D-19FE-4CD0-BD5D-4E4157A56C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E7D6-6D85-44D1-A06C-2DAE1CBCEB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5" name="Group 2"/>
          <p:cNvGrpSpPr/>
          <p:nvPr/>
        </p:nvGrpSpPr>
        <p:grpSpPr>
          <a:xfrm>
            <a:off x="0" y="0"/>
            <a:ext cx="8458200" cy="5943600"/>
            <a:chOff x="0" y="0"/>
            <a:chExt cx="8458200" cy="5943600"/>
          </a:xfrm>
        </p:grpSpPr>
        <p:sp>
          <p:nvSpPr>
            <p:cNvPr id="86"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C7CB-5AF9-4B6C-8A8D-73E3A5FF04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D1A7-7F2F-4168-83CD-877078B259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1274-552C-4119-A3CC-0B34183CC6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F17F-326E-4AFE-AF45-93AF51C419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989D-AAA5-43B5-8716-C2AC317DA3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373A-1F71-44C7-9188-B8F5D54E43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562B-E991-468E-AD63-8A3F035280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mortgage.aerotek.com/Mortgage-Staffing.aspx" TargetMode="External"/><Relationship Id="rId2" Type="http://schemas.openxmlformats.org/officeDocument/2006/relationships/image" Target="../media/image3.jpeg"/><Relationship Id="rId3" Type="http://schemas.openxmlformats.org/officeDocument/2006/relationships/hyperlink" Target="http://mortgage.aerotek.com/Mortgage-Staffing.aspx" TargetMode="External"/><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2" descr=""/>
          <p:cNvPicPr/>
          <p:nvPr/>
        </p:nvPicPr>
        <p:blipFill>
          <a:blip r:embed="rId1"/>
          <a:stretch/>
        </p:blipFill>
        <p:spPr>
          <a:xfrm>
            <a:off x="0" y="0"/>
            <a:ext cx="9144000" cy="6858000"/>
          </a:xfrm>
          <a:prstGeom prst="rect">
            <a:avLst/>
          </a:prstGeom>
          <a:ln w="0">
            <a:noFill/>
          </a:ln>
        </p:spPr>
      </p:pic>
      <p:sp>
        <p:nvSpPr>
          <p:cNvPr id="588" name="TextBox 2"/>
          <p:cNvSpPr/>
          <p:nvPr/>
        </p:nvSpPr>
        <p:spPr>
          <a:xfrm>
            <a:off x="457200" y="685800"/>
            <a:ext cx="624852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ax Gardner’s </a:t>
            </a:r>
            <a:endParaRPr b="0" lang="en-US" sz="5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Operation: Strike Back</a:t>
            </a:r>
            <a:endParaRPr b="0" lang="en-US" sz="5000" spc="-1" strike="noStrike">
              <a:solidFill>
                <a:srgbClr val="ffffff"/>
              </a:solidFill>
              <a:latin typeface="Tahoma"/>
            </a:endParaRPr>
          </a:p>
        </p:txBody>
      </p:sp>
      <p:sp>
        <p:nvSpPr>
          <p:cNvPr id="589" name="TextBox 3"/>
          <p:cNvSpPr/>
          <p:nvPr/>
        </p:nvSpPr>
        <p:spPr>
          <a:xfrm>
            <a:off x="533520" y="3048120"/>
            <a:ext cx="7315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nkruptcy and Foreclosure Fraud Defense Boot Camp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ebruary 18-21, 2011</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is Las Vegas, Las Vegas, Nevada</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TextBox 4"/>
          <p:cNvSpPr/>
          <p:nvPr/>
        </p:nvSpPr>
        <p:spPr>
          <a:xfrm>
            <a:off x="545760" y="5943600"/>
            <a:ext cx="545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www.maxbankruptcybootcamp.co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35268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Who Is Robo-Signing Now?</a:t>
            </a:r>
            <a:endParaRPr b="0" lang="en-US" sz="4400" spc="-1" strike="noStrike">
              <a:solidFill>
                <a:srgbClr val="ffffcc"/>
              </a:solidFill>
              <a:latin typeface="Tahoma"/>
            </a:endParaRPr>
          </a:p>
        </p:txBody>
      </p:sp>
      <p:pic>
        <p:nvPicPr>
          <p:cNvPr id="592" name="Picture 3" descr="newbanner"/>
          <p:cNvPicPr/>
          <p:nvPr/>
        </p:nvPicPr>
        <p:blipFill>
          <a:blip r:embed="rId1"/>
          <a:stretch/>
        </p:blipFill>
        <p:spPr>
          <a:xfrm>
            <a:off x="533520" y="719280"/>
            <a:ext cx="8001000" cy="2279520"/>
          </a:xfrm>
          <a:prstGeom prst="rect">
            <a:avLst/>
          </a:prstGeom>
          <a:ln w="25560">
            <a:solidFill>
              <a:srgbClr val="ffffff"/>
            </a:solidFill>
            <a:miter/>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592"/>
                                        </p:tgtEl>
                                        <p:attrNameLst>
                                          <p:attrName>style.visibility</p:attrName>
                                        </p:attrNameLst>
                                      </p:cBhvr>
                                      <p:to>
                                        <p:strVal val="visible"/>
                                      </p:to>
                                    </p:set>
                                    <p:animEffect filter="fade" transition="in">
                                      <p:cBhvr additive="repl">
                                        <p:cTn id="7" dur="1000"/>
                                        <p:tgtEl>
                                          <p:spTgt spid="592"/>
                                        </p:tgtEl>
                                      </p:cBhvr>
                                    </p:animEffect>
                                    <p:anim calcmode="lin" valueType="num">
                                      <p:cBhvr additive="repl">
                                        <p:cTn id="8" dur="1000" fill="hold"/>
                                        <p:tgtEl>
                                          <p:spTgt spid="592"/>
                                        </p:tgtEl>
                                        <p:attrNameLst>
                                          <p:attrName>r</p:attrName>
                                        </p:attrNameLst>
                                      </p:cBhvr>
                                      <p:tavLst>
                                        <p:tav tm="0">
                                          <p:val>
                                            <p:strVal val="720"/>
                                          </p:val>
                                        </p:tav>
                                        <p:tav tm="100000">
                                          <p:val>
                                            <p:strVal val="0"/>
                                          </p:val>
                                        </p:tav>
                                      </p:tavLst>
                                    </p:anim>
                                    <p:anim calcmode="lin" valueType="num">
                                      <p:cBhvr additive="repl">
                                        <p:cTn id="9" dur="1000" fill="hold"/>
                                        <p:tgtEl>
                                          <p:spTgt spid="592"/>
                                        </p:tgtEl>
                                        <p:attrNameLst>
                                          <p:attrName>ppt_h</p:attrName>
                                        </p:attrNameLst>
                                      </p:cBhvr>
                                      <p:tavLst>
                                        <p:tav tm="0">
                                          <p:val>
                                            <p:fltVal val="0"/>
                                          </p:val>
                                        </p:tav>
                                        <p:tav tm="100000">
                                          <p:val>
                                            <p:strVal val="#ppt_h"/>
                                          </p:val>
                                        </p:tav>
                                      </p:tavLst>
                                    </p:anim>
                                    <p:anim calcmode="lin" valueType="num">
                                      <p:cBhvr additive="repl">
                                        <p:cTn id="10" dur="1000" fill="hold"/>
                                        <p:tgtEl>
                                          <p:spTgt spid="592"/>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591"/>
                                        </p:tgtEl>
                                        <p:attrNameLst>
                                          <p:attrName>style.visibility</p:attrName>
                                        </p:attrNameLst>
                                      </p:cBhvr>
                                      <p:to>
                                        <p:strVal val="visible"/>
                                      </p:to>
                                    </p:set>
                                    <p:anim calcmode="lin" valueType="num">
                                      <p:cBhvr additive="repl">
                                        <p:cTn id="14" dur="1000" fill="hold"/>
                                        <p:tgtEl>
                                          <p:spTgt spid="591"/>
                                        </p:tgtEl>
                                        <p:attrNameLst>
                                          <p:attrName>ppt_w</p:attrName>
                                        </p:attrNameLst>
                                      </p:cBhvr>
                                      <p:tavLst>
                                        <p:tav tm="0">
                                          <p:val>
                                            <p:fltVal val="0"/>
                                          </p:val>
                                        </p:tav>
                                        <p:tav tm="100000">
                                          <p:val>
                                            <p:strVal val="#ppt_w"/>
                                          </p:val>
                                        </p:tav>
                                      </p:tavLst>
                                    </p:anim>
                                    <p:anim calcmode="lin" valueType="num">
                                      <p:cBhvr additive="repl">
                                        <p:cTn id="15" dur="1000" fill="hold"/>
                                        <p:tgtEl>
                                          <p:spTgt spid="591"/>
                                        </p:tgtEl>
                                        <p:attrNameLst>
                                          <p:attrName>ppt_h</p:attrName>
                                        </p:attrNameLst>
                                      </p:cBhvr>
                                      <p:tavLst>
                                        <p:tav tm="0">
                                          <p:val>
                                            <p:fltVal val="0"/>
                                          </p:val>
                                        </p:tav>
                                        <p:tav tm="100000">
                                          <p:val>
                                            <p:strVal val="#ppt_h"/>
                                          </p:val>
                                        </p:tav>
                                      </p:tavLst>
                                    </p:anim>
                                    <p:animEffect filter="fade" transition="in">
                                      <p:cBhvr additive="repl">
                                        <p:cTn id="16" dur="10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4"/>
          <p:cNvSpPr/>
          <p:nvPr/>
        </p:nvSpPr>
        <p:spPr>
          <a:xfrm>
            <a:off x="685800" y="1192680"/>
            <a:ext cx="784872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ow that LPS Default Solutions LLC has closed down DOCx and now that they have stopped having LPS employees sign affidavits, assignments and endorsements, who is now signing these documents?</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answer may lie with a national temp agency called Aerotek.</a:t>
            </a:r>
            <a:r>
              <a:rPr b="1" lang="en-US" sz="3200" spc="-1" strike="noStrike">
                <a:solidFill>
                  <a:srgbClr val="ffffff"/>
                </a:solidFill>
                <a:latin typeface="Arial"/>
              </a:rPr>
              <a:t> </a:t>
            </a:r>
            <a:endParaRPr b="0" lang="en-US" sz="32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685800" y="2408760"/>
            <a:ext cx="792468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erotek is actually owned by The Allegis Group.  Allegis also owns Sherman Acquisitions, the largest buyer of distressed debt in the world.</a:t>
            </a:r>
            <a:endParaRPr b="0" lang="en-US" sz="32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4" descr="aerotek-logo-300">
            <a:hlinkClick r:id="rId1"/>
          </p:cNvPr>
          <p:cNvPicPr/>
          <p:nvPr/>
        </p:nvPicPr>
        <p:blipFill>
          <a:blip r:embed="rId2"/>
          <a:stretch/>
        </p:blipFill>
        <p:spPr>
          <a:xfrm>
            <a:off x="990720" y="1709640"/>
            <a:ext cx="7162560" cy="3438720"/>
          </a:xfrm>
          <a:prstGeom prst="rect">
            <a:avLst/>
          </a:prstGeom>
          <a:ln w="19080">
            <a:solidFill>
              <a:srgbClr val="ffffcc"/>
            </a:solidFill>
            <a:miter/>
          </a:ln>
        </p:spPr>
      </p:pic>
      <p:sp>
        <p:nvSpPr>
          <p:cNvPr id="596" name="Text Box 5"/>
          <p:cNvSpPr/>
          <p:nvPr/>
        </p:nvSpPr>
        <p:spPr>
          <a:xfrm>
            <a:off x="2971800" y="5715000"/>
            <a:ext cx="3048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66"/>
                </a:solidFill>
                <a:uFillTx/>
                <a:latin typeface="Arial"/>
                <a:hlinkClick r:id="rId3"/>
              </a:rPr>
              <a:t>LINK</a:t>
            </a:r>
            <a:endParaRPr b="0" lang="en-US" sz="40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304920" y="208080"/>
            <a:ext cx="8534160" cy="6430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Job Vacancy Announcement</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Aerotek has immediate openings for Home Service Specialists II for Bank of America in Westlake Village, CA. Must have experience with Loan Docs to be considered. Mortgage experience preferred. These are contract to hire positions paying $16/hr. Performs various mortgage and administrative functions including assignment and distribution of loan files, ordering appraisal and flood certificates as directed, and maintaining registration and non-funded loan files. Hours- 8:15am-5:15pm with Overtime and Saturdays if necessary. Please apply directly if you are interested and qualified. Required Skills: mortgage, mortgage servicing, Excel.          Join Aerotek Professional Services ® .</a:t>
            </a:r>
            <a:r>
              <a:rPr b="0" lang="en-US" sz="2400" spc="-1" strike="noStrike">
                <a:solidFill>
                  <a:srgbClr val="ffffff"/>
                </a:solidFill>
                <a:latin typeface="Arial"/>
              </a:rPr>
              <a:t> </a:t>
            </a:r>
            <a:endParaRPr b="0" lang="en-US" sz="24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304920" y="1458360"/>
            <a:ext cx="84582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erotek                                    Jacksonville Staffing Location</a:t>
            </a:r>
            <a:br>
              <a:rPr sz="3600"/>
            </a:br>
            <a:r>
              <a:rPr b="1" lang="en-US" sz="3600" spc="-1" strike="noStrike">
                <a:solidFill>
                  <a:srgbClr val="ffffcc"/>
                </a:solidFill>
                <a:latin typeface="Arial"/>
              </a:rPr>
              <a:t>7077 Bonneval Road, Suite 500</a:t>
            </a:r>
            <a:br>
              <a:rPr sz="3600"/>
            </a:br>
            <a:r>
              <a:rPr b="1" lang="en-US" sz="3600" spc="-1" strike="noStrike">
                <a:solidFill>
                  <a:srgbClr val="ffffcc"/>
                </a:solidFill>
                <a:latin typeface="Arial"/>
              </a:rPr>
              <a:t>Jacksonville, Florida 32216</a:t>
            </a:r>
            <a:br>
              <a:rPr sz="3600"/>
            </a:br>
            <a:r>
              <a:rPr b="1" lang="en-US" sz="3600" spc="-1" strike="noStrike">
                <a:solidFill>
                  <a:srgbClr val="ffffcc"/>
                </a:solidFill>
                <a:latin typeface="Arial"/>
              </a:rPr>
              <a:t>Phone:  (904) 527-5600</a:t>
            </a:r>
            <a:br>
              <a:rPr sz="3600"/>
            </a:br>
            <a:r>
              <a:rPr b="1" lang="en-US" sz="3600" spc="-1" strike="noStrike">
                <a:solidFill>
                  <a:srgbClr val="ffffcc"/>
                </a:solidFill>
                <a:latin typeface="Arial"/>
              </a:rPr>
              <a:t>Toll-Free:  (800) 836-2360</a:t>
            </a:r>
            <a:br>
              <a:rPr sz="3600"/>
            </a:br>
            <a:r>
              <a:rPr b="1" lang="en-US" sz="3600" spc="-1" strike="noStrike">
                <a:solidFill>
                  <a:srgbClr val="ffffcc"/>
                </a:solidFill>
                <a:latin typeface="Arial"/>
              </a:rPr>
              <a:t>Fax:  (904) 858-4201</a:t>
            </a:r>
            <a:endParaRPr b="0" lang="en-US" sz="36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
          <p:cNvSpPr/>
          <p:nvPr/>
        </p:nvSpPr>
        <p:spPr>
          <a:xfrm>
            <a:off x="380880" y="2209680"/>
            <a:ext cx="83822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PO Box 177</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asar NC 28020</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704.418.2628 (Max Direct)</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www.maxbankruptcybootcamp.com</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www.maxgardnerlaw.com</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maxgardner@maxgardner.com</a:t>
            </a:r>
            <a:endParaRPr b="0" lang="en-US" sz="3600" spc="-1" strike="noStrike">
              <a:solidFill>
                <a:srgbClr val="ffffff"/>
              </a:solidFill>
              <a:latin typeface="Tahoma"/>
            </a:endParaRPr>
          </a:p>
        </p:txBody>
      </p:sp>
      <p:sp>
        <p:nvSpPr>
          <p:cNvPr id="600" name="Text Box 3"/>
          <p:cNvSpPr/>
          <p:nvPr/>
        </p:nvSpPr>
        <p:spPr>
          <a:xfrm>
            <a:off x="533520" y="533520"/>
            <a:ext cx="8001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Max Gardner’s</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Bankruptcy Boot Camps</a:t>
            </a:r>
            <a:endParaRPr b="0" lang="en-US" sz="40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8:32:38Z</dcterms:created>
  <dc:creator> </dc:creator>
  <dc:description/>
  <dc:language>en-US</dc:language>
  <cp:lastModifiedBy>user1</cp:lastModifiedBy>
  <dcterms:modified xsi:type="dcterms:W3CDTF">2011-02-15T16:26:25Z</dcterms:modified>
  <cp:revision>5</cp:revision>
  <dc:subject/>
  <dc:title>whatsignature</dc:title>
</cp:coreProperties>
</file>